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6.gif" ContentType="image/gif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B90-18B0-4B67-B419-7F5A48651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6D73-0A2E-49C3-AA44-3E0CCD04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0DF-A0BE-4B7E-9D4F-A7BDFB70E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7982-5ED5-4C1E-B096-15AB9EF9A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DAD-EC2C-4E71-B980-4DDEC22E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E5E-A625-4EB3-8DC2-3370A0ED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0D2-E471-4024-946A-207E5F74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DEE-7127-4A33-9A12-3EA36F8A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8BF-3C57-46D1-A462-B3411FEF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B6B-8176-480E-A682-28AEAB12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BDD-CE98-416F-9FC5-0825DCEB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3EB-74DE-48E8-8C4B-8B7C6444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346-FC0A-415F-8B4D-7224D193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2C0-F2B4-435F-9572-0DFEEFBC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D58-E901-40A5-A6D2-3A4678B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3C2-5EB8-4042-879F-3B9554E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369C-83FA-4294-8165-5F261C99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hyperlink" Target="http://www.luoti.cn/p/UPLOAD/zhoubichang/24.jpg" TargetMode="External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13" descr=""/>
          <p:cNvPicPr/>
          <p:nvPr/>
        </p:nvPicPr>
        <p:blipFill>
          <a:blip r:embed="rId2"/>
          <a:stretch/>
        </p:blipFill>
        <p:spPr>
          <a:xfrm>
            <a:off x="480960" y="1557360"/>
            <a:ext cx="866304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4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2931840" cy="156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chool bus"/>
          <p:cNvPicPr/>
          <p:nvPr/>
        </p:nvPicPr>
        <p:blipFill>
          <a:blip r:embed="rId4"/>
          <a:stretch/>
        </p:blipFill>
        <p:spPr>
          <a:xfrm>
            <a:off x="395280" y="2852640"/>
            <a:ext cx="1860480" cy="194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图片6"/>
          <p:cNvPicPr/>
          <p:nvPr/>
        </p:nvPicPr>
        <p:blipFill>
          <a:blip r:embed="rId5"/>
          <a:srcRect l="19016" t="12119" r="16571" b="18859"/>
          <a:stretch/>
        </p:blipFill>
        <p:spPr>
          <a:xfrm>
            <a:off x="6877080" y="5396040"/>
            <a:ext cx="2266920" cy="146196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2771640" y="5229360"/>
            <a:ext cx="316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Section A </a:t>
            </a:r>
            <a:endParaRPr b="1" lang="en-US" sz="36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1a-2e</a:t>
            </a:r>
            <a:endParaRPr b="1" lang="en-US" sz="36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4.07407E-006 C -0.0007 0.02523 -0.00278 0.05046 0.00503 0.05509 C 0.01319 0.05972 0.03507 0.03703 0.05 0.02801 C 0.06493 0.01898 0.08211 -0.00533 0.09514 0.00115 C 0.10833 0.00763 0.11406 0.05972 0.12916 0.06736 C 0.14375 0.075 0.16267 0.04676 0.18402 0.04676 C 0.20538 0.04676 0.23402 0.06713 0.25659 0.06736 C 0.27882 0.06736 0.30989 0.05532 0.31909 0.04768 C 0.3283 0.04004 0.30208 0.02569 0.31145 0.02152 C 0.32118 0.01736 0.36163 0.0206 0.37673 0.02245 C 0.39166 0.0243 0.40104 0.02731 0.40156 0.03263 C 0.40208 0.03819 0.3908 0.05208 0.37899 0.05509 C 0.36753 0.0581 0.34114 0.05393 0.33177 0.05046 C 0.32205 0.04699 0.31961 0.03657 0.32152 0.03379 C 0.32326 0.03101 0.33784 0.03217 0.3427 0.03379 C 0.34774 0.03518 0.34965 0.04282 0.35139 0.04305 C 0.35347 0.04328 0.35225 0.03495 0.35399 0.03541 C 0.3559 0.03611 0.36215 0.0449 0.36267 0.04583 C 0.36354 0.04652 0.36059 0.04328 0.35781 0.04027 E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9" descr="13"/>
          <p:cNvPicPr/>
          <p:nvPr/>
        </p:nvPicPr>
        <p:blipFill>
          <a:blip r:embed="rId2"/>
          <a:srcRect l="1165" t="11769" r="1165" b="1904"/>
          <a:stretch/>
        </p:blipFill>
        <p:spPr>
          <a:xfrm>
            <a:off x="3059280" y="2133720"/>
            <a:ext cx="6084720" cy="4680000"/>
          </a:xfrm>
          <a:prstGeom prst="rect">
            <a:avLst/>
          </a:prstGeom>
          <a:ln w="0">
            <a:noFill/>
          </a:ln>
        </p:spPr>
      </p:pic>
      <p:sp>
        <p:nvSpPr>
          <p:cNvPr id="94" name="Oval 2"/>
          <p:cNvSpPr/>
          <p:nvPr/>
        </p:nvSpPr>
        <p:spPr>
          <a:xfrm>
            <a:off x="900000" y="47628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6337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en and write the numbers next to the correct students in the pi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68000" y="184464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Bo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64040" y="2643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45680" y="34354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Joh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97080" y="42274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Pau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03920" y="501156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Yang La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7080" y="58039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Ji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8" descr="喇叭"/>
          <p:cNvPicPr/>
          <p:nvPr/>
        </p:nvPicPr>
        <p:blipFill>
          <a:blip r:embed="rId3"/>
          <a:stretch/>
        </p:blipFill>
        <p:spPr>
          <a:xfrm>
            <a:off x="8317080" y="1125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rite the correct number next to the word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9640" y="3716280"/>
            <a:ext cx="83883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y-one ______     seventy-two ________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y-four ______    ninety-nine _______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hundred and five 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undred 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"/>
          <p:cNvSpPr/>
          <p:nvPr/>
        </p:nvSpPr>
        <p:spPr>
          <a:xfrm>
            <a:off x="289080" y="1285920"/>
            <a:ext cx="8982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14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repeat the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35280" y="2133720"/>
            <a:ext cx="5761080" cy="752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   105    99    200    72   61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476360" y="476280"/>
            <a:ext cx="56894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Listen and Write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16" descr="喇叭"/>
          <p:cNvPicPr/>
          <p:nvPr/>
        </p:nvPicPr>
        <p:blipFill>
          <a:blip r:embed="rId2"/>
          <a:stretch/>
        </p:blipFill>
        <p:spPr>
          <a:xfrm>
            <a:off x="8028000" y="191628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7" descr="20081384656871_2"/>
          <p:cNvPicPr/>
          <p:nvPr/>
        </p:nvPicPr>
        <p:blipFill>
          <a:blip r:embed="rId2"/>
          <a:srcRect l="43359" t="27276" r="4634" b="24131"/>
          <a:stretch/>
        </p:blipFill>
        <p:spPr>
          <a:xfrm>
            <a:off x="5435640" y="0"/>
            <a:ext cx="3384360" cy="19782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"/>
          <p:cNvGrpSpPr/>
          <p:nvPr/>
        </p:nvGrpSpPr>
        <p:grpSpPr>
          <a:xfrm>
            <a:off x="539640" y="907920"/>
            <a:ext cx="2016000" cy="2158920"/>
            <a:chOff x="539640" y="907920"/>
            <a:chExt cx="2016000" cy="2158920"/>
          </a:xfrm>
        </p:grpSpPr>
        <p:grpSp>
          <p:nvGrpSpPr>
            <p:cNvPr id="112" name="Group 3"/>
            <p:cNvGrpSpPr/>
            <p:nvPr/>
          </p:nvGrpSpPr>
          <p:grpSpPr>
            <a:xfrm>
              <a:off x="539640" y="907920"/>
              <a:ext cx="2016000" cy="2129040"/>
              <a:chOff x="539640" y="907920"/>
              <a:chExt cx="2016000" cy="2129040"/>
            </a:xfrm>
          </p:grpSpPr>
          <p:pic>
            <p:nvPicPr>
              <p:cNvPr id="113" name="Picture 4" descr=""/>
              <p:cNvPicPr/>
              <p:nvPr/>
            </p:nvPicPr>
            <p:blipFill>
              <a:blip r:embed="rId3">
                <a:lum bright="60000"/>
              </a:blip>
              <a:stretch/>
            </p:blipFill>
            <p:spPr>
              <a:xfrm>
                <a:off x="1547640" y="907920"/>
                <a:ext cx="1008000" cy="106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5" descr=""/>
              <p:cNvPicPr/>
              <p:nvPr/>
            </p:nvPicPr>
            <p:blipFill>
              <a:blip r:embed="rId4">
                <a:lum bright="90000"/>
              </a:blip>
              <a:stretch/>
            </p:blipFill>
            <p:spPr>
              <a:xfrm>
                <a:off x="539640" y="1972440"/>
                <a:ext cx="1008000" cy="106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6" descr=""/>
              <p:cNvPicPr/>
              <p:nvPr/>
            </p:nvPicPr>
            <p:blipFill>
              <a:blip r:embed="rId5">
                <a:lum bright="54000"/>
              </a:blip>
              <a:stretch/>
            </p:blipFill>
            <p:spPr>
              <a:xfrm>
                <a:off x="1547640" y="1972440"/>
                <a:ext cx="1008000" cy="1064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Oval 7"/>
            <p:cNvSpPr/>
            <p:nvPr/>
          </p:nvSpPr>
          <p:spPr>
            <a:xfrm>
              <a:off x="793800" y="1492200"/>
              <a:ext cx="1624680" cy="1574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1581840" y="2230200"/>
              <a:ext cx="93960" cy="9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1610640" y="2319120"/>
              <a:ext cx="36720" cy="58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1467360" y="2269800"/>
              <a:ext cx="185760" cy="5050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82" h="510">
                  <a:moveTo>
                    <a:pt x="182" y="12"/>
                  </a:moveTo>
                  <a:lnTo>
                    <a:pt x="136" y="0"/>
                  </a:lnTo>
                  <a:lnTo>
                    <a:pt x="0" y="498"/>
                  </a:lnTo>
                  <a:lnTo>
                    <a:pt x="46" y="510"/>
                  </a:lnTo>
                  <a:lnTo>
                    <a:pt x="1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6"/>
          <p:cNvGrpSpPr/>
          <p:nvPr/>
        </p:nvGrpSpPr>
        <p:grpSpPr>
          <a:xfrm>
            <a:off x="6588000" y="1628640"/>
            <a:ext cx="1584360" cy="1513080"/>
            <a:chOff x="6588000" y="1628640"/>
            <a:chExt cx="1584360" cy="1513080"/>
          </a:xfrm>
        </p:grpSpPr>
        <p:sp>
          <p:nvSpPr>
            <p:cNvPr id="121" name="Oval 13"/>
            <p:cNvSpPr/>
            <p:nvPr/>
          </p:nvSpPr>
          <p:spPr>
            <a:xfrm>
              <a:off x="6588000" y="1628640"/>
              <a:ext cx="1584360" cy="151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14"/>
            <p:cNvGrpSpPr/>
            <p:nvPr/>
          </p:nvGrpSpPr>
          <p:grpSpPr>
            <a:xfrm>
              <a:off x="7085880" y="1758240"/>
              <a:ext cx="317520" cy="1101600"/>
              <a:chOff x="7085880" y="1758240"/>
              <a:chExt cx="317520" cy="1101600"/>
            </a:xfrm>
          </p:grpSpPr>
          <p:sp>
            <p:nvSpPr>
              <p:cNvPr id="123" name="Oval 15"/>
              <p:cNvSpPr/>
              <p:nvPr/>
            </p:nvSpPr>
            <p:spPr>
              <a:xfrm>
                <a:off x="7311960" y="2363400"/>
                <a:ext cx="914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7356960" y="1758240"/>
                <a:ext cx="37800" cy="648000"/>
              </a:xfrm>
              <a:custGeom>
                <a:avLst/>
                <a:gdLst>
                  <a:gd name="textAreaLeft" fmla="*/ 0 w 37800"/>
                  <a:gd name="textAreaRight" fmla="*/ 37800 w 3780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38" h="680">
                    <a:moveTo>
                      <a:pt x="2" y="680"/>
                    </a:moveTo>
                    <a:lnTo>
                      <a:pt x="38" y="68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7085880" y="2450160"/>
                <a:ext cx="267120" cy="40968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268" h="430">
                    <a:moveTo>
                      <a:pt x="268" y="24"/>
                    </a:moveTo>
                    <a:lnTo>
                      <a:pt x="228" y="0"/>
                    </a:lnTo>
                    <a:lnTo>
                      <a:pt x="0" y="406"/>
                    </a:lnTo>
                    <a:lnTo>
                      <a:pt x="40" y="430"/>
                    </a:lnTo>
                    <a:lnTo>
                      <a:pt x="26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20"/>
          <p:cNvSpPr/>
          <p:nvPr/>
        </p:nvSpPr>
        <p:spPr>
          <a:xfrm>
            <a:off x="592200" y="3436920"/>
            <a:ext cx="81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fa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t from his home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576360" y="415620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’s 10 kilome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76360" y="48769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long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it take to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76360" y="55958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about 30 minut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5" descr="CAR_0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692280"/>
            <a:ext cx="1548000" cy="952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004"/>
          <p:cNvPicPr/>
          <p:nvPr/>
        </p:nvPicPr>
        <p:blipFill>
          <a:blip r:embed="rId8"/>
          <a:stretch/>
        </p:blipFill>
        <p:spPr>
          <a:xfrm>
            <a:off x="900000" y="0"/>
            <a:ext cx="15782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arow023"/>
          <p:cNvPicPr/>
          <p:nvPr/>
        </p:nvPicPr>
        <p:blipFill>
          <a:blip r:embed="rId9"/>
          <a:stretch/>
        </p:blipFill>
        <p:spPr>
          <a:xfrm rot="10800000">
            <a:off x="2987640" y="1557000"/>
            <a:ext cx="1674720" cy="57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43280" y="1989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10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lomet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2492280"/>
          <a:ext cx="8964720" cy="2746440"/>
        </p:xfrm>
        <a:graphic>
          <a:graphicData uri="http://schemas.openxmlformats.org/drawingml/2006/table">
            <a:tbl>
              <a:tblPr/>
              <a:tblGrid>
                <a:gridCol w="1093680"/>
                <a:gridCol w="2398680"/>
                <a:gridCol w="2473560"/>
                <a:gridCol w="2998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long (minute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far (kilometer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m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2"/>
          <p:cNvSpPr/>
          <p:nvPr/>
        </p:nvSpPr>
        <p:spPr>
          <a:xfrm>
            <a:off x="1332000" y="141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Listen and complete the char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"/>
          <p:cNvSpPr/>
          <p:nvPr/>
        </p:nvSpPr>
        <p:spPr>
          <a:xfrm>
            <a:off x="324000" y="1285920"/>
            <a:ext cx="8982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6" descr="喇叭"/>
          <p:cNvPicPr/>
          <p:nvPr/>
        </p:nvPicPr>
        <p:blipFill>
          <a:blip r:embed="rId2"/>
          <a:stretch/>
        </p:blipFill>
        <p:spPr>
          <a:xfrm>
            <a:off x="7740720" y="127152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3067200"/>
          <a:ext cx="8893440" cy="2292120"/>
        </p:xfrm>
        <a:graphic>
          <a:graphicData uri="http://schemas.openxmlformats.org/drawingml/2006/table">
            <a:tbl>
              <a:tblPr/>
              <a:tblGrid>
                <a:gridCol w="1116000"/>
                <a:gridCol w="2303640"/>
                <a:gridCol w="2665440"/>
                <a:gridCol w="2808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long (minute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far (kilometers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a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9" name="Text Box 2"/>
          <p:cNvSpPr/>
          <p:nvPr/>
        </p:nvSpPr>
        <p:spPr>
          <a:xfrm>
            <a:off x="1835280" y="907920"/>
            <a:ext cx="5616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Read the conversation and fill in the blank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"/>
          <p:cNvSpPr/>
          <p:nvPr/>
        </p:nvSpPr>
        <p:spPr>
          <a:xfrm>
            <a:off x="539640" y="1095480"/>
            <a:ext cx="89856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24000" y="6922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 you very much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53 -0.02451 C -0.11233 0.05202 0.00504 0.43306 0.03837 0.43422 C 0.0717 0.43538 0.05365 0.07699 0.05764 -0.01711 E">
                                      <p:cBhvr>
                                        <p:cTn id="144" dur="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5" descr="200884154547725_lit"/>
          <p:cNvPicPr/>
          <p:nvPr/>
        </p:nvPicPr>
        <p:blipFill>
          <a:blip r:embed="rId1"/>
          <a:stretch/>
        </p:blipFill>
        <p:spPr>
          <a:xfrm>
            <a:off x="2484360" y="1268280"/>
            <a:ext cx="4321080" cy="341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64360" y="549360"/>
            <a:ext cx="58132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ow do they get to school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66160" y="4797360"/>
            <a:ext cx="65023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. They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ke the bus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7440" y="5589720"/>
            <a:ext cx="6078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2. They get to schoo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y bus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4720" y="549360"/>
            <a:ext cx="5869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ow does he get to school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800" y="4797360"/>
            <a:ext cx="70966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. H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kes the subway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5589720"/>
            <a:ext cx="66729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2. He gets to schoo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y subway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762440" cy="28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2226810_123426004_2"/>
          <p:cNvPicPr/>
          <p:nvPr/>
        </p:nvPicPr>
        <p:blipFill>
          <a:blip r:embed="rId2"/>
          <a:srcRect l="0" t="5736" r="0" b="0"/>
          <a:stretch/>
        </p:blipFill>
        <p:spPr>
          <a:xfrm>
            <a:off x="4788000" y="1628640"/>
            <a:ext cx="4321080" cy="279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63640" y="549360"/>
            <a:ext cx="63514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ow does Jack get to school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5800" y="4797360"/>
            <a:ext cx="6561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. H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kes the train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7080" y="5589720"/>
            <a:ext cx="61380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2. He gets to schoo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y train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火车"/>
          <p:cNvPicPr/>
          <p:nvPr/>
        </p:nvPicPr>
        <p:blipFill>
          <a:blip r:embed="rId1"/>
          <a:stretch/>
        </p:blipFill>
        <p:spPr>
          <a:xfrm>
            <a:off x="2195640" y="1844640"/>
            <a:ext cx="5113080" cy="2228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4720" y="549360"/>
            <a:ext cx="63208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ow does Tom get to school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65440" y="4797360"/>
            <a:ext cx="6363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. H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ides the bike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6720" y="5589720"/>
            <a:ext cx="59961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2. He gets to schoo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y bike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4" descr="http://www.shaoerw.com/img/slimg/dw/images/333.jpg"/>
          <p:cNvPicPr/>
          <p:nvPr/>
        </p:nvPicPr>
        <p:blipFill>
          <a:blip r:embed="rId1"/>
          <a:stretch/>
        </p:blipFill>
        <p:spPr>
          <a:xfrm>
            <a:off x="3203640" y="1557360"/>
            <a:ext cx="2950920" cy="2847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64360" y="549360"/>
            <a:ext cx="58132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ow do they get to school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5080" y="4797360"/>
            <a:ext cx="497844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. They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alk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37440" y="5589720"/>
            <a:ext cx="6220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2. They get to schoo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on foot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" descr="http://www.taopic.com/uploads/allimg/110320/6630-110320062Q839.jpg"/>
          <p:cNvPicPr/>
          <p:nvPr/>
        </p:nvPicPr>
        <p:blipFill>
          <a:blip r:embed="rId1"/>
          <a:srcRect l="12545" t="8291" r="12477" b="6505"/>
          <a:stretch/>
        </p:blipFill>
        <p:spPr>
          <a:xfrm>
            <a:off x="3564000" y="1413000"/>
            <a:ext cx="2208240" cy="331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63640" y="549360"/>
            <a:ext cx="61257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ow does Bill get to school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61080" y="4941720"/>
            <a:ext cx="72262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.His parents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drive him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" y="5734080"/>
            <a:ext cx="8340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2. He gets to schoo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in his parents’ car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2679840" cy="3471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360000"/>
            <a:ext cx="7164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tch the words with the pi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144360" y="2494080"/>
            <a:ext cx="288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216360" indent="-216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ake the bu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144360" y="3573360"/>
            <a:ext cx="36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216360" indent="-216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ake the subw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44360" y="4581360"/>
            <a:ext cx="30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216360" indent="-216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ide a bi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144360" y="5602320"/>
            <a:ext cx="2484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3840" indent="-393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al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360" y="1341360"/>
            <a:ext cx="3348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ake the trai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"/>
          <p:cNvSpPr/>
          <p:nvPr/>
        </p:nvSpPr>
        <p:spPr>
          <a:xfrm>
            <a:off x="826920" y="333360"/>
            <a:ext cx="754200" cy="84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1" descr="13"/>
          <p:cNvPicPr/>
          <p:nvPr/>
        </p:nvPicPr>
        <p:blipFill>
          <a:blip r:embed="rId2"/>
          <a:srcRect l="1165" t="11769" r="1165" b="1904"/>
          <a:stretch/>
        </p:blipFill>
        <p:spPr>
          <a:xfrm>
            <a:off x="3492360" y="1197000"/>
            <a:ext cx="5651640" cy="568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自行车"/>
          <p:cNvPicPr/>
          <p:nvPr/>
        </p:nvPicPr>
        <p:blipFill>
          <a:blip r:embed="rId1"/>
          <a:stretch/>
        </p:blipFill>
        <p:spPr>
          <a:xfrm>
            <a:off x="2700360" y="5037120"/>
            <a:ext cx="2232000" cy="148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火车"/>
          <p:cNvPicPr/>
          <p:nvPr/>
        </p:nvPicPr>
        <p:blipFill>
          <a:blip r:embed="rId2"/>
          <a:stretch/>
        </p:blipFill>
        <p:spPr>
          <a:xfrm>
            <a:off x="3203640" y="404640"/>
            <a:ext cx="194292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bus02"/>
          <p:cNvPicPr/>
          <p:nvPr/>
        </p:nvPicPr>
        <p:blipFill>
          <a:blip r:embed="rId3"/>
          <a:stretch/>
        </p:blipFill>
        <p:spPr>
          <a:xfrm>
            <a:off x="468360" y="189000"/>
            <a:ext cx="2050920" cy="13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地铁"/>
          <p:cNvPicPr/>
          <p:nvPr/>
        </p:nvPicPr>
        <p:blipFill>
          <a:blip r:embed="rId4"/>
          <a:stretch/>
        </p:blipFill>
        <p:spPr>
          <a:xfrm>
            <a:off x="6300720" y="189000"/>
            <a:ext cx="2195640" cy="145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539640" y="4665600"/>
            <a:ext cx="1300320" cy="2192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1333080" y="2276640"/>
            <a:ext cx="633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: </a:t>
            </a: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How do you get to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school</a:t>
            </a: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: </a:t>
            </a: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I ______to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school</a:t>
            </a: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I get to school ___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car03"/>
          <p:cNvPicPr/>
          <p:nvPr/>
        </p:nvPicPr>
        <p:blipFill>
          <a:blip r:embed="rId6"/>
          <a:stretch/>
        </p:blipFill>
        <p:spPr>
          <a:xfrm>
            <a:off x="6012000" y="5013360"/>
            <a:ext cx="2305080" cy="1444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57:17Z</dcterms:created>
  <dc:creator/>
  <dc:description/>
  <cp:keywords/>
  <dc:language>en-US</dc:language>
  <cp:lastModifiedBy>lenovo</cp:lastModifiedBy>
  <dcterms:modified xsi:type="dcterms:W3CDTF">2016-03-16T15:00:29Z</dcterms:modified>
  <cp:revision>231</cp:revision>
  <dc:subject/>
  <dc:title>幻灯片 1</dc:title>
</cp:coreProperties>
</file>